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33F3-9F1C-4D69-8BC7-843912EB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39D0-DD1B-451C-ACC1-0DACBCCF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CCE1-9625-4CB9-811D-22D406C0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7084-854E-4BD5-AC65-8ED96934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FD35-C649-4EA5-9111-CCB23990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E43A-1D7D-472B-B8E9-7F5BADFE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F1E2-F60D-4E76-8975-FD2522AF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D54E-3041-4F61-9E7C-90F23570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B2DF-A6AF-4430-A85C-CAFAAE3E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1C00-E57B-4A8E-A719-B8DB0FCE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64E0-A5A7-4EC8-8280-BF744858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A237-7116-48DF-AD1B-10954A1A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BFC9-BE20-429D-971F-99B67659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C2B9-8591-4489-B99A-65895EA6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7B44-D99B-4FF1-B82C-98E31460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4C98-5D7F-46E2-8D33-1EBBE84CB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5C5B-AE2E-49E3-8551-F975202E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16DE-8DBD-407E-B86C-F49DE3FA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601D-E608-44B9-BD1F-638ABD3C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BCB8-9F67-4F09-9522-42473404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D5A3-CF63-4A36-A9C0-38931D9C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B9FC-62CD-4D64-B617-00D076C6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6AF3-96CC-4FAA-8741-0642D05F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4A34-142C-4F15-8626-CF59A77D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" name="Rectangle 8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6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7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Line 20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Line 21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Line 22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Line 23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Line 24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Line 25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Line 26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Line 27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Line 28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Line 29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6724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72B4-F8F5-4670-B30C-1C7A5DAFCB45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67" name="Rectangle 3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AD67-219B-4DE6-A190-1E0CE36ECBB3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642960" y="3786120"/>
            <a:ext cx="7929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00b05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Дарвинский заповедник</a:t>
            </a:r>
            <a:endParaRPr b="1" lang="en-US" sz="1800" spc="1" strike="noStrike">
              <a:ln w="9360">
                <a:solidFill>
                  <a:srgbClr val="00cc99"/>
                </a:solidFill>
                <a:miter/>
              </a:ln>
              <a:solidFill>
                <a:srgbClr val="00b05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3" name="Picture 5" descr="ДАРВИНСКИЙ заповедник - эмблема"/>
          <p:cNvPicPr/>
          <p:nvPr/>
        </p:nvPicPr>
        <p:blipFill>
          <a:blip r:embed="rId1"/>
          <a:stretch/>
        </p:blipFill>
        <p:spPr>
          <a:xfrm>
            <a:off x="2857680" y="357120"/>
            <a:ext cx="3097080" cy="2973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642960" y="2014560"/>
            <a:ext cx="8072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Рыбинском водохранилище в районе заповедника сейчас отмечено 28 видов рыб, относящихся к 6 отрядам и 10 семействам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карпообразных, представлен 14 видами семейства, и 2 видами семейства вьюнов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окунеобразных представлен 4 видами семейства окунев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лососеобразных, два подвида семейства корюшковых, семейство сиговых, семейство щукообразн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сомообразных представляет один вид – со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WordArt 23"/>
          <p:cNvSpPr txBox="1"/>
          <p:nvPr/>
        </p:nvSpPr>
        <p:spPr>
          <a:xfrm>
            <a:off x="2500200" y="285840"/>
            <a:ext cx="400068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ыб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9680" y="285840"/>
            <a:ext cx="828684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Gothic"/>
              </a:rPr>
              <a:t>Дарвинский государственный природный биосферный заповедник </a:t>
            </a:r>
            <a:br>
              <a:rPr sz="3600"/>
            </a:b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040" y="1714680"/>
            <a:ext cx="84549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  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Число зарегистрированных видов: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грибы - 125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лишайники - 66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мхи - 149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лауновидные - 4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апортниковидные - 21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голосеменные - 4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окрытосеменные - 569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рыбы - 28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земноводные - 7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ресмыкающиеся - 5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тицы - 238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млекопитающие - 37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214200" y="736920"/>
            <a:ext cx="89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рвинский государственный природный заповедник создан по Решению Совета Народных Комиссаров 18 июля 1945 г.  Площадь заповедника 112673 га, площадь охранной зоны 27028 га. В ноябре 2002 года Дарвинский заповедник получил статус международного биосферного резервата. Дарвинский заповедник расположен на побережье Рыбинского водохранилища, на стыке Вологодской, Ярославской и Тверской областей. Он занимает самую оконечность полуострова, глубоко вдающегося с северо-запада на юго-восток в акваторию Рыбинского водохранилища. Создан в целях сохранения уникальной природы Молого-Шекснинского междуречья и изучения влияния Рыбинского водохранилища на все элементы природного комплекс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0" y="3357720"/>
            <a:ext cx="72151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500040" y="1019520"/>
            <a:ext cx="8215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ительность заповедника. Более 80% территории заповедника занято болотами и заболоченными лесами. составляет от 10 до 17 тыс. лет.Преобладают сфагновые верховые болота. Флора их бедна. Древесный ярус образует сосна разных экологических форм. В траявяно-кустарничковом ярусе обычны кассандра, подбел, багульник болотный, голубика, клюква, пушица, морошка, шейхцерия, осока топяная, изредка встречаются водяника, росянка. В моховом покрове господствуют сфагновые мхи. Низинных и переходных болот в заповеднике немного.Леса в заповеднике приурочены к наиболее дренируемым участкам: берегам рек и прибрежным участкам водохранилища, вершинам древних материковых дюн и песчаным гривам среди болот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WordArt 5"/>
          <p:cNvSpPr txBox="1"/>
          <p:nvPr/>
        </p:nvSpPr>
        <p:spPr>
          <a:xfrm>
            <a:off x="1428840" y="714240"/>
            <a:ext cx="6715080" cy="857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Растительность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1" descr="ДАРВИНСКИЙ заповедник"/>
          <p:cNvPicPr/>
          <p:nvPr/>
        </p:nvPicPr>
        <p:blipFill>
          <a:blip r:embed="rId1"/>
          <a:stretch/>
        </p:blipFill>
        <p:spPr>
          <a:xfrm>
            <a:off x="127080" y="252360"/>
            <a:ext cx="8939160" cy="64533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3"/>
          <p:cNvSpPr/>
          <p:nvPr/>
        </p:nvSpPr>
        <p:spPr>
          <a:xfrm>
            <a:off x="3333600" y="2286000"/>
            <a:ext cx="247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3335400" y="2239920"/>
            <a:ext cx="18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3997440" y="2276640"/>
            <a:ext cx="18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ДАРВИНСКИЙ заповедник - подорлик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ДАРВИНСКИЙ заповедник - бобр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72360" y="-4335840"/>
            <a:ext cx="4316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47" name="Picture 4" descr="ДАРВИНСКИЙ заповедник - скопа"/>
          <p:cNvPicPr/>
          <p:nvPr/>
        </p:nvPicPr>
        <p:blipFill>
          <a:blip r:embed="rId1"/>
          <a:stretch/>
        </p:blipFill>
        <p:spPr>
          <a:xfrm>
            <a:off x="0" y="0"/>
            <a:ext cx="3635280" cy="32846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6"/>
          <p:cNvSpPr/>
          <p:nvPr/>
        </p:nvSpPr>
        <p:spPr>
          <a:xfrm>
            <a:off x="3708360" y="1176480"/>
            <a:ext cx="50785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заповеднике обитают как типичные таежные виды - бурый медведь, рябчик, глухарь, кукша, так и широко распространенные - лось, кабан, обыкновенная полевка, тетерев, серый журавл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лекопитающие. В заповеднике обитает 37 видов млекопитающих из 6 отрядов и 16 семейств. Парнокопытные представлены двумя видами - это лось и кабан. Из хищников обычны медведь и волк. Немногочисленна, но регулярно встречается рысь. Три вида хищников-норников лисица, енотовидная собака и барсук, приспособились к существованию среди низменной заболоченной территории. Реже встречаются лесная куница, норка, черный хорь, выдр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7" descr="ДАРВИНСКИЙ заповедник - кабан"/>
          <p:cNvPicPr/>
          <p:nvPr/>
        </p:nvPicPr>
        <p:blipFill>
          <a:blip r:embed="rId2"/>
          <a:stretch/>
        </p:blipFill>
        <p:spPr>
          <a:xfrm>
            <a:off x="0" y="3429000"/>
            <a:ext cx="3635280" cy="3429000"/>
          </a:xfrm>
          <a:prstGeom prst="rect">
            <a:avLst/>
          </a:prstGeom>
          <a:ln w="0">
            <a:noFill/>
          </a:ln>
        </p:spPr>
      </p:pic>
      <p:sp>
        <p:nvSpPr>
          <p:cNvPr id="150" name="WordArt 9"/>
          <p:cNvSpPr txBox="1"/>
          <p:nvPr/>
        </p:nvSpPr>
        <p:spPr>
          <a:xfrm>
            <a:off x="3786120" y="285840"/>
            <a:ext cx="481968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ивотный мир</a:t>
            </a:r>
            <a:endParaRPr b="1" lang="en-US" sz="1800" spc="1" strike="noStrike">
              <a:ln w="0">
                <a:noFill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2928960" y="1290960"/>
            <a:ext cx="5857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й численности достигают здесь водоплавающие птицы, в первую очередь кряква, свиязь, хохлатая чернеть, гоголь. Реже встречаются на гнездовье шилохвость, широконоска, большой крохаль и луток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голенастых птиц в заповеднике встречаются серая цапля и большая выпь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айковых птиц наиболее обычна сизая чайка. Значительно реже встречаются озерная и малая чайки, немногочисленна серебристая чайк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10" descr="ДАРВИНСКИЙ заповедник - орлан"/>
          <p:cNvPicPr/>
          <p:nvPr/>
        </p:nvPicPr>
        <p:blipFill>
          <a:blip r:embed="rId1"/>
          <a:stretch/>
        </p:blipFill>
        <p:spPr>
          <a:xfrm>
            <a:off x="0" y="3645000"/>
            <a:ext cx="2771640" cy="3213000"/>
          </a:xfrm>
          <a:prstGeom prst="rect">
            <a:avLst/>
          </a:prstGeom>
          <a:ln w="0">
            <a:noFill/>
          </a:ln>
        </p:spPr>
      </p:pic>
      <p:sp>
        <p:nvSpPr>
          <p:cNvPr id="153" name="WordArt 16"/>
          <p:cNvSpPr txBox="1"/>
          <p:nvPr/>
        </p:nvSpPr>
        <p:spPr>
          <a:xfrm>
            <a:off x="3286080" y="428760"/>
            <a:ext cx="4929120" cy="83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тиц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4" name="Picture 17" descr="ДАРВИНСКИЙ заповедник - скопа"/>
          <p:cNvPicPr/>
          <p:nvPr/>
        </p:nvPicPr>
        <p:blipFill>
          <a:blip r:embed="rId2"/>
          <a:stretch/>
        </p:blipFill>
        <p:spPr>
          <a:xfrm>
            <a:off x="0" y="0"/>
            <a:ext cx="2771640" cy="328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10:13:44Z</dcterms:created>
  <dc:creator>Max</dc:creator>
  <dc:description/>
  <dc:language>en-US</dc:language>
  <cp:lastModifiedBy>Трубин Сергей Александрович</cp:lastModifiedBy>
  <dcterms:modified xsi:type="dcterms:W3CDTF">2012-09-05T10:16:06Z</dcterms:modified>
  <cp:revision>17</cp:revision>
  <dc:subject/>
  <dc:title>Слайд 1</dc:title>
</cp:coreProperties>
</file>